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8D4A-6414-4F45-9E74-664923A2D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050A-7BD6-4078-A303-BB697316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4FB7-39D9-414A-B4F9-8629A14F9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2331-3B08-414A-B879-204EC9C80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BC25-1F47-44C6-8E42-34BF5884F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7017E-7E31-4AF1-9688-0488154A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CA80-A4D2-4A63-A0CA-EA9F0BF0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0B6C6-321D-4667-BF3E-9CB52ECC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FB31-E2B4-4F79-8DA2-7B6B6C99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932C-5867-4788-A063-94DF13C9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9D21A-F912-4E93-ADEC-A9900AFE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BDF8-D603-4106-89FE-E05458B8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58D5-0ED5-40B2-B513-8165E563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B18EE-8B42-4790-8AB5-2BAE788A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CA1C-B6A3-40B5-8E17-20F155CA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C956-856A-4AE7-A125-8D3BEC5A5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C7E12-D5C6-48D3-8ECA-1562C474E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F62B-0B9A-445C-90FC-7F738974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9E8A-A3AD-44C5-8EC2-1B117A2A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E7EE-5631-49B8-BA11-84445004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ADDA-6EBA-4129-A7FF-CE5BA0BA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BBEE-81FA-48EE-A19F-5D71E336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4D8E-2AD8-4374-82FA-9478ED60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9CC8-09AF-433F-96AD-34F56CAD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85CE-FF6D-42D2-8520-72214C90AC5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63D1-8D32-45EC-A043-F673A399B09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apter 6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tomic Structure and Chemical Bond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eriodic Table and Energy Level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number of electrons increases by one as you go across a perio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number of energy levels increases by one as you go down a colum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“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ight is Great”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Noble Gas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ll noble gases either have all of their energy levels filled to its maximum or it has eight electrons in its outermost energy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Quick Check-up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ow many energy levels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Calcium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trontium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Boron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ow many electrons in outermost level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ntimon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Beryllium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Krypton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eriodic Famili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Group 18- Noble Gass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o not combine with other elemen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ome react slightly, but it is rar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Group 17- Haloge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Very reactive- only needs one electron to be stabl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Flourine is the most active, outermost shell is closest to the nucleu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Group 1- Alkali Metal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Have one electron in outermost shel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Very reactive with halogen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 your Science Journa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ad and answer the questions in the “Applying Science” article on page 167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ectron Dot Diagram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rite Chemical Symbo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lace first dot on top of symbol and work right until all four sides have a dot or you are out of electr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Only use electrons in the outermost energy level. Why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tarting back at the top fill in the remaining spaces until you are out of electr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mical Bon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force that hold atoms togeth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toms bond in manner which makes both atoms stab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.e: both atoms outermost shells will be arranged like the noble gasses (8 Electrons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onic Bon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on- result of an atom loosing or gaining an electron and changing its overall charg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onic bond is an attraction which holds ions togethe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mpound- pure substance containing two or more elements that are chemically bonde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happens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f Magnesium (+2 charge) meets with chlorine (-1 charge) will they bond? If so, How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etallic bondin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rm when metal atoms share their pooled electro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Keeps metals from breaking and makes them malleab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outermost electrons travel from one atom to another enabling a curren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oldab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amburger fol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amburger fol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ut along the sea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abel top half “ Ionic Bonds”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abel the Bottom Half “Covalent Bonds”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valent Bondin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chemical bond that forms between non-metal atoms when they share electro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rm a neutral partic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olecule- neutral particle formed when electrons are share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iatomic Molecul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ydroge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Oxyge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Nitroge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Fluorin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hlorin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Bromin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odin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statine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ouble and Triple Bon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ometimes an atom shares more than one electron with another ato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ook at figure 17 on page 174 for double bon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en two pairs of electrons make one covalent bond it is called a double bon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ouble and Triple Bon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gure 17 also shows a triple bond between 2 Nitrogen atom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s occurs when three pairs of electrons are shared covalent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ar Molecul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Ball Dem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2 different sizes, one is positive and one is negativ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olar Bon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hen atoms of different sizes bond, they form polar molecul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se molecules do not share the electrons evenl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larger atom keeps the electrons more than the smaller atom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ar Molecul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good example of a polar molecule is wat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lso, hydrochloric acid and sodium chlorid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Draw these three molecules and determine the pole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mical Symbol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You all have been asking how elements get their symbol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Most elements are symbolized by their first letter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Examples: Hydrogen (H) and Carbon (C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Others are symbolized for their name in another languag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Potassium (K) – Latin for Kalium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Iron (Fe) – Greek for Ferrou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Chemical symbols are understood worldwid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mical Symbol Rul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f One Letter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ust be capitalize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f Two Letters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First letter is capital and the second is lowercas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f Three Letters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First letter is capitalized and the remaining are lowercas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914400" y="1219320"/>
            <a:ext cx="4952880" cy="487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371600" y="1676520"/>
            <a:ext cx="3886200" cy="21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 Black"/>
              </a:rPr>
              <a:t>2 H</a:t>
            </a:r>
            <a:r>
              <a:rPr b="0" lang="en-US" sz="120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1981080" y="3352320"/>
            <a:ext cx="0" cy="1143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3581280" y="3352320"/>
            <a:ext cx="0" cy="2133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4648320" y="3657240"/>
            <a:ext cx="0" cy="15238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19320" y="4495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1f08"/>
                </a:solidFill>
                <a:latin typeface="Arial Black"/>
              </a:rPr>
              <a:t>Superscript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828800" y="54100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 Black"/>
              </a:rPr>
              <a:t>Chemical Symbol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114800" y="5181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 Black"/>
              </a:rPr>
              <a:t>Subscript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mmon Chemical Formula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ydrochloric Aci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odium Chlorid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odium Hydroxid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ulfuric Aci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ilver Nitrat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ron Oxid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ate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ydrogen Peroxid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mmoni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Nitric Aci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cetic Aci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agnesium Chlorid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Key Vocabular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lectron clou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nergy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lectron dot diagram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hemical bon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onic Bon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mpoun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etallic Bon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valent Bon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olecul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olar Bon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hemical Formul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tomic Structur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Your desk appears to be solid, but it is mostly empty space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lectron cloud- the area of open space around an atom’s nucleus that contains electro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path of an electron is not well mapped. It is actually kind of rando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ectron clou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Very similar to the blades of a ceiling fa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t appears that there is a circle rotating when it is a few blades moving at such a fast rate that it creates that imag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ectron arrangem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lthough all the electrons are in the electron cloud, some electrons are closer to the nucleus than othe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nergy Levels- different areas for an electron in an ato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ook at figure 3 on page 163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umber of Electr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ach energy level can only hold a certain number of electr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nergy Level One- can hold either 1 or 2 electr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nergy Level Two- can hold up to 8 electr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nergy Level Three- can hold up to 18 electr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nergy Level Four- can hold up to 32 electr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Quick Lab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Get a magnet and 4 paper clip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Use the magnet to pick up one paper clip—record observation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Use the magnet to pick up the rest of the paper clips one at a time—record observation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One at a time remove the paper clips from the magnet—record observation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hich paper clip was the easiest to remove? Why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nergy Level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lectrons in energy level one have the least amount of energy and are less likely to leave the ato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lectrons in energy level 4 have the most energy and are more likely to leave the ato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0T02:21:38Z</dcterms:created>
  <dc:creator>Adam's Homepage</dc:creator>
  <dc:description/>
  <dc:language>en-US</dc:language>
  <cp:lastModifiedBy>Adam's Homepage</cp:lastModifiedBy>
  <dcterms:modified xsi:type="dcterms:W3CDTF">2008-10-30T13:48:25Z</dcterms:modified>
  <cp:revision>5</cp:revision>
  <dc:subject/>
  <dc:title>Chapter 6</dc:title>
</cp:coreProperties>
</file>